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EED-625E-4A91-9916-6F3EAE2F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846-2862-4AC4-A642-987AB1A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4EC-0B51-484A-9E5F-332ED7CE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7C-38EA-44E6-9143-BF9AE48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BC2-020E-4BA5-B57C-C9B74F6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B3D-4FF1-4703-8211-3612523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43C-0AC0-48B8-AE60-F6DD1AD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96C-DB04-4FD9-8272-66813599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3C1-B1A4-4337-9042-03F1E04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752-CF4D-4EAF-810A-1A0C7C2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DEC-407E-46CA-855D-3570EC1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CD9-A389-4A3E-9B4E-DCF5228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4674-980E-487E-9597-147007250D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PUBLICAN ASCENDANCY</a:t>
            </a:r>
            <a:br>
              <a:rPr sz="36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Jeffersonian/Madison Vision</a:t>
            </a:r>
            <a:br>
              <a:rPr sz="2700"/>
            </a:br>
            <a:br>
              <a:rPr sz="27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nding Father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s began to pass away in 182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 and John Adams both died July 4, 18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Madison died in 1836 despairing that slavery’s continuation undermined legacy of republican egalitarianism of Foun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592360" y="2857680"/>
            <a:ext cx="383544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765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olution of 18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list Party v. Republican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lector could vote for two candidates, and the person who received the second largest number of votes during the balloting became vice-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 fixed the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12" descr="Thomas Jefferson by Rembrandt Peale, 1800.jpeg"/>
          <p:cNvPicPr/>
          <p:nvPr/>
        </p:nvPicPr>
        <p:blipFill>
          <a:blip r:embed="rId2"/>
          <a:srcRect l="-3296" t="0" r="-3296" b="0"/>
          <a:stretch/>
        </p:blipFill>
        <p:spPr>
          <a:xfrm>
            <a:off x="4724280" y="2971800"/>
            <a:ext cx="227016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S Navy 031029-N-6236G-001 A painting of President John Adams (1735-1826), 2nd president of the United States, by Asher B. Durand (1767-1845)-crop.jpeg"/>
          <p:cNvPicPr/>
          <p:nvPr/>
        </p:nvPicPr>
        <p:blipFill>
          <a:blip r:embed="rId3"/>
          <a:stretch/>
        </p:blipFill>
        <p:spPr>
          <a:xfrm>
            <a:off x="7162920" y="2971800"/>
            <a:ext cx="1981080" cy="24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image139.gif"/>
          <p:cNvPicPr/>
          <p:nvPr/>
        </p:nvPicPr>
        <p:blipFill>
          <a:blip r:embed="rId4"/>
          <a:stretch/>
        </p:blipFill>
        <p:spPr>
          <a:xfrm>
            <a:off x="4800600" y="2340000"/>
            <a:ext cx="43434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in 18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150"/>
          <p:cNvPicPr/>
          <p:nvPr/>
        </p:nvPicPr>
        <p:blipFill>
          <a:blip r:embed="rId2"/>
          <a:stretch/>
        </p:blipFill>
        <p:spPr>
          <a:xfrm>
            <a:off x="685800" y="1371600"/>
            <a:ext cx="76201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as Jefferson-Democratic Republic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efferson wanted Native Americans moved west of Mississippi and to become yeoman farmers with help of federal Indian ag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economy based on agriculture and trade/commerce (84% of population in agricultur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duce size of government (reduced taxes, cut military, etc..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uisiana Purchase/Lewis Clark Expedition  (doubled size of nation for 15 million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spute over Jefferson’s reforms of federal judiciary lead to important judicial policies (Marbury v. Madison 1803-judicial review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effersonians begin to split in ideology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lict in Barbary States in Northern Afr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03—England and France resumed wa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erican ships subject to seiz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y England through “Orders in Council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y Napoleon through “Berlin, Milan Decre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07—Congress prohibited U.S. ships from leaving port (Embargo Act 1807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bargo unpopular at h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stitution had said Congress could consider banning importation of slaves after 18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w is somewhat a fail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158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17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IVI7233156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DIVI7233TB802"/>
          <p:cNvPicPr/>
          <p:nvPr/>
        </p:nvPicPr>
        <p:blipFill>
          <a:blip r:embed="rId2"/>
          <a:srcRect l="0" t="27482" r="0" b="8392"/>
          <a:stretch/>
        </p:blipFill>
        <p:spPr>
          <a:xfrm>
            <a:off x="380880" y="2438280"/>
            <a:ext cx="8458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Weird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“The quick brown fox jumps over the lazy dog” uses every letter of the alphab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average lifetime you will eat 35,000 coo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born the white whale is bl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Madison-Democratic Republi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217476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ntier people believed British were encouraging Tecumseh, (Shawnee defeated at Battle of Tippecanoe-1811) forcing him to turn to Bri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tford Convention- (Federalists) convened in December, 1814 to Propose constitutional changes to lessen power of Sou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rt Federalist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improvements of nation by the construction of reliable transport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9—Embargo repealed in favor of Non-Intercourse 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.S. would resume trade with England and France on promise to cease seizure of U.S. vesse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lish continue to seize ships and impress U.S. citizens, so does Fr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essional War Hawks demanded war with England to preserve American honor, Madison compl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 of 1812 begins and is a complete disaster for Americ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tain and U.S. come to a peace under the Treaty of Ghent which brings about nationalism throughout the U.S. (Jackson/Battle of New Orle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165"/>
          <p:cNvPicPr/>
          <p:nvPr/>
        </p:nvPicPr>
        <p:blipFill>
          <a:blip r:embed="rId2"/>
          <a:stretch/>
        </p:blipFill>
        <p:spPr>
          <a:xfrm>
            <a:off x="609480" y="1447920"/>
            <a:ext cx="3089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lection of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DIVI7233TB803"/>
          <p:cNvPicPr/>
          <p:nvPr/>
        </p:nvPicPr>
        <p:blipFill>
          <a:blip r:embed="rId2"/>
          <a:srcRect l="0" t="17000" r="0" b="2262"/>
          <a:stretch/>
        </p:blipFill>
        <p:spPr>
          <a:xfrm>
            <a:off x="533520" y="2590920"/>
            <a:ext cx="83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4:47:07Z</dcterms:created>
  <dc:creator>CMU</dc:creator>
  <dc:description/>
  <cp:keywords/>
  <dc:language>en-US</dc:language>
  <cp:lastModifiedBy>Buffalo Grive High School</cp:lastModifiedBy>
  <cp:lastPrinted>2012-09-12T16:36:25Z</cp:lastPrinted>
  <dcterms:modified xsi:type="dcterms:W3CDTF">2011-10-05T05:07:20Z</dcterms:modified>
  <cp:revision>44</cp:revision>
  <dc:subject/>
  <dc:title>CHAPTER 8 JEFFERSONIAN ASCENDANCY: THEORY AND PRACTICE OF GOVERNMENT</dc:title>
</cp:coreProperties>
</file>